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3D7-DC86-4C85-9733-ABD0EC8F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473-49CE-4BFF-847D-43BC54D8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D99-608F-47DC-BF4E-2BBDBD98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C28-0E71-4D71-890D-AA5B57AF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9DB5-BC14-4C10-87E0-1CCE5641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DF59-4317-497E-B726-08B52401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A1B1-56E8-4B16-9180-71F46EB9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0DF3-6C35-43A4-9B12-15E9451A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5CC9-805A-4ED7-BE36-09C1BEF5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8181-47E5-4C5C-8BEA-90F1B105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444B-F066-4BA5-B79D-E70CD3E0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052-6968-4F55-8576-55D62832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16A9-07C8-4B3B-BDBE-E7011F7B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D2EF-3747-4C73-93AE-118DB7F0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31D1-8C01-4ADC-847D-830D01D2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1E73-09AB-4C2D-8678-33E0AC10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7800-9EA2-42C9-8C1E-07650EA2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AA4-E1D8-43DA-A732-AC9A6252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E39-FCCC-4850-BB83-327D7933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784-4661-4D93-A6C8-F7DDAF70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185-3D2A-453E-A800-EEBF498A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C72-921A-4A7F-8529-5DC51555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41B-D3E4-4F81-92FC-19EBBBD6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FAB-F979-4584-997D-B976C19F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-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. McIntyre, J. Miller, J. Mullane, A. We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F97F-AE9B-4FFE-9BC5-CE6CE652DFA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rolog1a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65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52F9-5293-4596-BDDE-69FC09A3E29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Prolog - </a:t>
            </a: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PROgramming in LOGic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624852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S 3711 - Project.  By Andy McIntyre, Aaron Webb, John  Mullane and Johnny Miller. Dec. 1,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2209680"/>
            <a:ext cx="4114800" cy="413244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   </a:t>
            </a: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CS 3711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An overview of the Prolo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Language, its structure, uses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its shortcoming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Presented to: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Dr. Rosebru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What are PREDICATES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PREDICATES section is where we define predicates to be used in the CLAUSES section and define the domains for their argument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ymbolic name of a rel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 found it best to think of predicate declarations as function prototypes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:  age(string, integer)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What are CLAUS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auses are the heart of the progra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clause is an instance of a predicate, followed by a perio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auses are of two type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ac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ul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ause Facts: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acts in the CLAUSE section are relations that are known to be true by the programmer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lf standing basis for inferen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 property of an object or a relation between object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: red(car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ause Rules: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sed to infer other fac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perty or relation known given the fact that some other set of relations are know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: Jane can eat food if it is a vegetable on the doctor’s lis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an_eat(jane, X):- food(X), vegetable(X), doc_list(X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What are GOALS: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t of program where queries are mad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n be singular or compoun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ach part of a compound goal is known as a subgoal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 satisfy a compound goal (or query) each subgoal must itself be satisfied by the system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ompound Goal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seful when we want to find Conjunction or Disjunction of a number of goa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:  What are the things do Bill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Cindy both like (in common)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Prolog: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ikes(bill, What), likes(cindy, Wha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milarly, we use ‘;’ as an OR for system queries.  (Note: AND takes precedence over OR in multiple subgoal cases.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Part II: Syntax and Semantics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king sense of some Prolog code - much of this is likely compiler specific.  Variables, wild card, terms, statement delimiters - facts by ., lists, compound data objects and functors. AND OR, arithmetic (integer and real (infix notation), order of operations, comparison, no loops all recursion(121), I/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erm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log programs are composed of ter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ms ar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nstan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variab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ructur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nstan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names for specific objects or relationships.  The two types are Atoms and integers.  The :- symbol is also considered an ato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oms are things which must begin with a lowercase letter and may be followed by digits, underscores or any case letter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eeded, an atom may contain anything and be place inside ‘ ’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Variabl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ariables are any string that begins with an uppercase sign or an undersco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ariables stand for something that cannot be named at the current tim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milar to a pronoun in Englis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single ‘_’ is considered the anonymous variable.  It means don’t care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ariables are instantiated (bound to values) as the  program progress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Atom and Variable Examples: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om Examples: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_boy, peanut, ‘Jack-Smith’, i12345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t Atoms: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231as, Jack-Smith, _crack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ariables Examples: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swer, X, I_like, _Marb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t Variables: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ther, 3blind_mic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What is PROLOG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log is a Declarative or logical Langu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log takes only facts and rules to arrive at go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grammer doesn’t tell it how to sol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solving logic and decision problems, Prolog is ide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ical applications:  AI, Database apps, proving theorems, symbolic evaluation (i.e. differentiation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Structures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uctures represent the atomic proposition of predicate calculus. The general form is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unctor(parameter lis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ts, and relations and rules are considered structu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ound structures – a structure can contain substructures.  E.g. instead 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rives(john,c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could ha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rives(john,car(mercedes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can greatly aid readabil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Arithmetic in Prolo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olog provides built in functions for doing arithmetic, similar to most major languag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ovides built in random number generato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tegers and reals have standard operations defined (*,/,+,-)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-fix notation is used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Arithmetic continued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rder of operations (for all types)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.  Parenthes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2.  Left to right *, /, div, mo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3.  Left to right +, -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Other Arithmetic Functions: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X mod 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Returns the remainder (modulos) of X divided by 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X div 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Returns the quotient of X divided by 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abs(X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If X is bound to a positive value val,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abs(X)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returns that value; otherwise, it returns -1 * v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cos(X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 trigonometric functions require that X be bound 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sin(X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a value representing an angle in radian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an(X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Returns the tangent of its argumen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More Functions!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exp(X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e raised to the value to which X is bou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ln(X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Logarithm of X, base 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log(X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Logarithm of X, base 1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sqrt(X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Square root of X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random(X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Binds X to a random real; 0 &lt;= X &lt; 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random(X, Y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Binds Y to a random integer; 0 &lt;= Y &lt; X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trunc(X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Truncates X. The result still being a re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val(domain,X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Explicit conversion between numeric domai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Assignment vs. Comparison (=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 = Y+Z*2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variable X is assigned the value X+Z*20 if X is uninstanti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 is compared to Y+Z*20 if X has been instantiated earlier 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i.e. There is no == for comparison.  Tricky.  Compiler specifi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 dialects of prolog use ‘is’ for assignment and = for comparis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Relational operations </a:t>
            </a:r>
            <a:br>
              <a:rPr sz="4200"/>
            </a:b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cc9900"/>
                </a:solidFill>
                <a:latin typeface="Tahoma"/>
              </a:rPr>
              <a:t>return succeed or fail</a:t>
            </a:r>
            <a:endParaRPr b="0" lang="en-US" sz="28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98108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mbol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ss tha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ater tha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=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ater or equal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&lt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ss than or equal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&gt; Or &gt;&lt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t equal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ypes available for Comparis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log the previous operations for comparison on integers and reals (duh), strings, characters and symbo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racters are converted to ASCII values which are then compared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ings are compared character by character until a pair are not equal. Shorter strings are considered &lt; larger string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mbols cannot be compared directly due to storage mechanism.  They must first be bound to variables or written as str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I/O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/O can be performed on virtually any device.  Standard is keyboard/vide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log uses write, readln, readint, readch, readreal (some other readtypes as well – all are covered – many compatible)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:   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GOAL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write(“Enter an integer!”),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readint(Int),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Loop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log provides no support for loops, though it can be ‘tricked’ into looping.  Ex: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CLAUSES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repeat.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repeat:-repeat.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writer:-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repeat,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char(C),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(C),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C = '\r',!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How does Prolog work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log is based on ‘Horn Clauses’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orn Clauses are a subset of ‘Predicate Logic’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edicate logic is a way of simply defining how reasoning gets done in logic term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edicate Logic is a syntax for easily reading and writing Logical idea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Recurs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petition is normally done through recursion.  The standard example i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actorial(1, 1) :- !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actorial(X, FactX) :-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Y = X-1,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actorial(Y, FactY),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actX = X*FactY.</a:t>
            </a:r>
            <a:r>
              <a:rPr b="0" lang="en-US" sz="3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Part III: Data types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scription of Prolog’s built-in data types and which are compatibl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ata Typ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ha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haracter, implemented as an unsigned byte. Syntactically, it is written as a character surrounded by single quotation marks: 'a'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loating-point number, implemented as 8 bytes in accordance with IEEE conventions; equivalent to C's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doub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ata Types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r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ointer to a null terminated sequence of characters (as in C), defined b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6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equence of letters, numbers and    underscores, provided the first character is lower-case;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6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a character sequence surrounded by a pair    of double quotation mark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ata Typ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teg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igned quantity, having the natural size for the machine/platform architecture in ques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ymbo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equence of characters, implemented as a pointer to an entry in a hashed symbol-table, containing strings. The syntax is the same as for str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ata Typ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is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Prolog equivalent to arrays.     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Lists in prolog are, however, dynamic and similar to LISP in that you can only use CAR and CDR equivalents to access elements.  [Head|Tail]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ata Typ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ther built in Domains (probably compiler specific!)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short, ushort, long, ulong, unsigned, byte, word, dword.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se are mostly similar to their C counterparts. 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Note: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No operator overloading is permitted in Prolog!  (see reason for =&lt;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Part IV: Crazy Things in Prolog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14040" y="2743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acktracking, Cuts, Fails, Dynamic Facts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ts get Crazy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Backtrack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process used by Prolog to re-satisfy goa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en a goal or subgoal fails, Prolog attempts to re-satisfy each of the subgoals in tur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en no other subgoals can be satisfied, it attempts to find an alternative clause for the goal. Variables are returned to their original values (called uninstantiated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ceeds to satisfy any alternate claus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Backtrack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le(alan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le(gary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emale(margare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rent(alan, gary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rent(alan, margare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other(X,Y) :- parent(X,Y), female(Y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ather(X,Y) :- parent(X,Y), male(Y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oal: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?- mother(alan,Mo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8" name=""/>
          <p:cNvCxnSpPr/>
          <p:nvPr/>
        </p:nvCxnSpPr>
        <p:spPr>
          <a:xfrm flipH="1" rot="16200000">
            <a:off x="-990720" y="3123720"/>
            <a:ext cx="3353400" cy="457920"/>
          </a:xfrm>
          <a:prstGeom prst="bentConnector3">
            <a:avLst>
              <a:gd name="adj1" fmla="val 100182"/>
            </a:avLst>
          </a:prstGeom>
          <a:ln w="25560">
            <a:solidFill>
              <a:srgbClr val="cc9900"/>
            </a:solidFill>
            <a:miter/>
            <a:tailEnd len="med" type="triangle" w="med"/>
          </a:ln>
        </p:spPr>
      </p:cxnSp>
      <p:grpSp>
        <p:nvGrpSpPr>
          <p:cNvPr id="169" name=""/>
          <p:cNvGrpSpPr/>
          <p:nvPr/>
        </p:nvGrpSpPr>
        <p:grpSpPr>
          <a:xfrm>
            <a:off x="457200" y="1676520"/>
            <a:ext cx="457560" cy="2600280"/>
            <a:chOff x="457200" y="1676520"/>
            <a:chExt cx="457560" cy="2600280"/>
          </a:xfrm>
        </p:grpSpPr>
        <p:cxnSp>
          <p:nvCxnSpPr>
            <p:cNvPr id="170" name=""/>
            <p:cNvCxnSpPr/>
            <p:nvPr/>
          </p:nvCxnSpPr>
          <p:spPr>
            <a:xfrm flipH="1" rot="16200000">
              <a:off x="-609480" y="2742840"/>
              <a:ext cx="2591280" cy="457920"/>
            </a:xfrm>
            <a:prstGeom prst="bentConnector3">
              <a:avLst>
                <a:gd name="adj1" fmla="val 100361"/>
              </a:avLst>
            </a:prstGeom>
            <a:ln w="25560">
              <a:solidFill>
                <a:srgbClr val="cc9900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457200" y="3581280"/>
              <a:ext cx="45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57200" y="1676520"/>
            <a:ext cx="457560" cy="2600280"/>
            <a:chOff x="457200" y="1676520"/>
            <a:chExt cx="457560" cy="2600280"/>
          </a:xfrm>
        </p:grpSpPr>
        <p:grpSp>
          <p:nvGrpSpPr>
            <p:cNvPr id="173" name=""/>
            <p:cNvGrpSpPr/>
            <p:nvPr/>
          </p:nvGrpSpPr>
          <p:grpSpPr>
            <a:xfrm>
              <a:off x="457200" y="1676520"/>
              <a:ext cx="457560" cy="2600280"/>
              <a:chOff x="457200" y="1676520"/>
              <a:chExt cx="457560" cy="2600280"/>
            </a:xfrm>
          </p:grpSpPr>
          <p:cxnSp>
            <p:nvCxnSpPr>
              <p:cNvPr id="174" name=""/>
              <p:cNvCxnSpPr/>
              <p:nvPr/>
            </p:nvCxnSpPr>
            <p:spPr>
              <a:xfrm flipH="1" rot="16200000">
                <a:off x="-609480" y="2742840"/>
                <a:ext cx="2591280" cy="457920"/>
              </a:xfrm>
              <a:prstGeom prst="bentConnector3">
                <a:avLst>
                  <a:gd name="adj1" fmla="val 100361"/>
                </a:avLst>
              </a:prstGeom>
              <a:ln w="25560">
                <a:solidFill>
                  <a:srgbClr val="cc9900"/>
                </a:solidFill>
                <a:miter/>
                <a:tailEnd len="med" type="triangle" w="med"/>
              </a:ln>
            </p:spPr>
          </p:cxnSp>
          <p:sp>
            <p:nvSpPr>
              <p:cNvPr id="175" name=""/>
              <p:cNvSpPr/>
              <p:nvPr/>
            </p:nvSpPr>
            <p:spPr>
              <a:xfrm>
                <a:off x="457200" y="3581280"/>
                <a:ext cx="45720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457200" y="3276720"/>
              <a:ext cx="45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57200" y="1676520"/>
            <a:ext cx="457560" cy="2600280"/>
            <a:chOff x="457200" y="1676520"/>
            <a:chExt cx="457560" cy="2600280"/>
          </a:xfrm>
        </p:grpSpPr>
        <p:cxnSp>
          <p:nvCxnSpPr>
            <p:cNvPr id="178" name=""/>
            <p:cNvCxnSpPr/>
            <p:nvPr/>
          </p:nvCxnSpPr>
          <p:spPr>
            <a:xfrm flipH="1" rot="16200000">
              <a:off x="-609480" y="2742840"/>
              <a:ext cx="2591280" cy="457920"/>
            </a:xfrm>
            <a:prstGeom prst="bentConnector3">
              <a:avLst>
                <a:gd name="adj1" fmla="val 100361"/>
              </a:avLst>
            </a:prstGeom>
            <a:ln w="25560">
              <a:solidFill>
                <a:srgbClr val="cc9900"/>
              </a:solidFill>
              <a:miter/>
              <a:tailEnd len="med" type="triangle" w="med"/>
            </a:ln>
          </p:spPr>
        </p:cxnSp>
        <p:sp>
          <p:nvSpPr>
            <p:cNvPr id="179" name=""/>
            <p:cNvSpPr/>
            <p:nvPr/>
          </p:nvSpPr>
          <p:spPr>
            <a:xfrm>
              <a:off x="457200" y="3962520"/>
              <a:ext cx="45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57200" y="1676520"/>
            <a:ext cx="457560" cy="2600280"/>
            <a:chOff x="457200" y="1676520"/>
            <a:chExt cx="457560" cy="2600280"/>
          </a:xfrm>
        </p:grpSpPr>
        <p:cxnSp>
          <p:nvCxnSpPr>
            <p:cNvPr id="181" name=""/>
            <p:cNvCxnSpPr/>
            <p:nvPr/>
          </p:nvCxnSpPr>
          <p:spPr>
            <a:xfrm flipH="1" rot="16200000">
              <a:off x="-609480" y="2742840"/>
              <a:ext cx="2591280" cy="457920"/>
            </a:xfrm>
            <a:prstGeom prst="bentConnector3">
              <a:avLst>
                <a:gd name="adj1" fmla="val 100361"/>
              </a:avLst>
            </a:prstGeom>
            <a:ln w="25560">
              <a:solidFill>
                <a:srgbClr val="cc9900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457200" y="4267080"/>
              <a:ext cx="45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57200" y="1676520"/>
            <a:ext cx="457560" cy="2600280"/>
            <a:chOff x="457200" y="1676520"/>
            <a:chExt cx="457560" cy="2600280"/>
          </a:xfrm>
        </p:grpSpPr>
        <p:sp>
          <p:nvSpPr>
            <p:cNvPr id="184" name=""/>
            <p:cNvSpPr/>
            <p:nvPr/>
          </p:nvSpPr>
          <p:spPr>
            <a:xfrm>
              <a:off x="457200" y="3276720"/>
              <a:ext cx="45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5" name=""/>
            <p:cNvCxnSpPr/>
            <p:nvPr/>
          </p:nvCxnSpPr>
          <p:spPr>
            <a:xfrm flipH="1" rot="16200000">
              <a:off x="-609480" y="2742840"/>
              <a:ext cx="2591280" cy="457920"/>
            </a:xfrm>
            <a:prstGeom prst="bentConnector3">
              <a:avLst>
                <a:gd name="adj1" fmla="val 100361"/>
              </a:avLst>
            </a:prstGeom>
            <a:ln w="25560">
              <a:solidFill>
                <a:srgbClr val="cc9900"/>
              </a:solidFill>
              <a:miter/>
              <a:tailEnd len="med" type="triangle" w="med"/>
            </a:ln>
          </p:spPr>
        </p:cxnSp>
        <p:sp>
          <p:nvSpPr>
            <p:cNvPr id="186" name=""/>
            <p:cNvSpPr/>
            <p:nvPr/>
          </p:nvSpPr>
          <p:spPr>
            <a:xfrm>
              <a:off x="457200" y="3962520"/>
              <a:ext cx="457200" cy="0"/>
            </a:xfrm>
            <a:prstGeom prst="line">
              <a:avLst/>
            </a:prstGeom>
            <a:ln w="255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57200" y="1676160"/>
            <a:ext cx="457560" cy="3359160"/>
            <a:chOff x="457200" y="1676160"/>
            <a:chExt cx="457560" cy="3359160"/>
          </a:xfrm>
        </p:grpSpPr>
        <p:cxnSp>
          <p:nvCxnSpPr>
            <p:cNvPr id="188" name=""/>
            <p:cNvCxnSpPr/>
            <p:nvPr/>
          </p:nvCxnSpPr>
          <p:spPr>
            <a:xfrm flipH="1" rot="16200000">
              <a:off x="-990720" y="3123720"/>
              <a:ext cx="3353400" cy="457920"/>
            </a:xfrm>
            <a:prstGeom prst="bentConnector3">
              <a:avLst>
                <a:gd name="adj1" fmla="val 100182"/>
              </a:avLst>
            </a:prstGeom>
            <a:ln w="25560">
              <a:solidFill>
                <a:srgbClr val="cc9900"/>
              </a:solidFill>
              <a:miter/>
              <a:tailEnd len="med" type="triangle" w="med"/>
            </a:ln>
          </p:spPr>
        </p:cxnSp>
        <p:sp>
          <p:nvSpPr>
            <p:cNvPr id="189" name=""/>
            <p:cNvSpPr/>
            <p:nvPr/>
          </p:nvSpPr>
          <p:spPr>
            <a:xfrm>
              <a:off x="457200" y="5029200"/>
              <a:ext cx="45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Predicate Logic...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 transform an English sentence to Predicate Logic, we remove unnecessary term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s leaves only the relationship and the entities involved, known as argument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:  A pie is good   =   good(pie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relation is ‘good’, the relation’s argument is ‘pie’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Prolog, we call the relation’s name (e.g. “good”) the  ‘Functor’.  A relation may include many arguments after the functo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he “Cut”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yntactically described by 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pecial mechanism which controls (prevents) backtracking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 a goal, the “cut” always succeeds and cannot be re-satisfied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milar to GOTO – powerful but usually ugl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nce a “cut” is encountered, backtracking cannot retreat past this poi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wo types:  Red cut and a Green cu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Green Cuts!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 ‘Green Cut’ is when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You incorporate a cut when you know that after a certain stage in the clauses, no new meaningful solutions will be generat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You can save time and memory by eliminating extraneous searching that the system would otherwise need to discover on its own, the hard way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program would run fine without the cut, it is merely an optimizatio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Red Cut!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hanges the logic of a progra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rrect solutions depend on using the cut for omitting certain subgoals from being consider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kes for much worse readability and maintainability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he “</a:t>
            </a:r>
            <a:r>
              <a:rPr b="0" lang="en-US" sz="4200" spc="-1" strike="noStrike">
                <a:solidFill>
                  <a:srgbClr val="00cc00"/>
                </a:solidFill>
                <a:latin typeface="Tahoma"/>
              </a:rPr>
              <a:t>Green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 Cut” Exampl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ample: trapping the inpu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LAUS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r(X) :- X = 1 , !, write(“you entered 1.”).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r(X) :- X = 2 , ! ,write(“you entered 2.”).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r(X) :- X = 3 , ! ,write(“you entered 3.”).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r(_) :- write("This is a catchall clause."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GO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r(1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he “</a:t>
            </a:r>
            <a:r>
              <a:rPr b="0" lang="en-US" sz="4200" spc="-1" strike="noStrike">
                <a:solidFill>
                  <a:srgbClr val="800000"/>
                </a:solidFill>
                <a:latin typeface="Tahoma"/>
              </a:rPr>
              <a:t>Red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 Cut” Exampl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ample: Library access!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from Programming in Prolog 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Ed. P. 76.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CLAUS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acility(Pers, Fac):- book_overdue(Pers,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ook),!,basic_facility(Fac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acility(Pers, Fac):-general_facility(Fac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asic_facility(reference).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asic_facility(enquiries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additional_facility(borrowing).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additional_facility(inter_library_loan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general_facility(X):-basic_facility(X).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general_facility(X):-additional_facility(X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ook_overdue(‘A. Webb’, book69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GO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acility(A. Webb,Y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Fail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other built in predicate used for controlling the backtracking process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n be used in the GOAL or CLAUSES se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ssentially the opposite of the cu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s a  forced failure in a chain of goa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quivalent to adding an impossible goal.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(Ex. 2=3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ncourages backtracking to continu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Fail Example: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icer output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CLAUS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ather(leonard,katherine).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ather(jack, christine).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ather(leonard, jane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list_dads:-father(X,Y),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write(X," is ",Y,"'s father\n")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ai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list_dad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GO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list_dad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ynamic Facts!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 cool aspect of Prolog is that Facts (clauses) can be added and removed from the program during executio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milarly, facts can be removed on the fly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s introduces the possibility of dynamic rules, growing databases and low level ‘learning’ within a program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dynamic facts can be easily saved to a file and consulted in a later instance of the program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ynamic Facts Example:</a:t>
            </a:r>
            <a:br>
              <a:rPr sz="4200"/>
            </a:br>
            <a:r>
              <a:rPr b="0" i="1" lang="en-US" sz="3200" spc="-1" strike="noStrike">
                <a:solidFill>
                  <a:srgbClr val="cc9900"/>
                </a:solidFill>
                <a:latin typeface="Tahoma"/>
              </a:rPr>
              <a:t>(building a greedy wish list)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LAUSES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wish_list(500, 256, 19)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wish_list(600, 64, 21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s_sexy(Clock, RAM, Monitor):-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lock &gt;= 450,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(RAM &gt;= 256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onitor &gt;= 19),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ot(wish_list(Clock, RAM, Monitor)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O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onsult(“list.dba”),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(is_sexy(733, 512, 21),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sserta(wish_list(Clock, RAM, Monitor),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ave(“list.dba”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Part V: Evaluation!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144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perks vs. the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Rules in Prolo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 infer facts from other facts, Prolog uses Rules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programmer defines rules similarly to the fact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:  Bill likes cars if they are red =            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ikes(bill, cars):- red(car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y the way, in prolog, ‘:-’ is pronounced ‘if’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A Whole new approach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 found ‘thinking logically’ odd at tim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log’s facts and rules seemed strangely minimal for solving problem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cursive calls rather than looping made for some headach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sult:  learning the language wasn’t all that trivial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Readability and Writability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ery tough to learn how to trace the way a program goes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acktracking isn’t a natural way to trace a program’s flow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uts seem very unreadable and tough to see where they should go. Especially Red cuts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uts and fails make for tough maintainabil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uts are often easy to miss.  (they are compared to gotos by many authors!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ata types and control structur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omains were easy to understand, though some seemed redundan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ntrol structures are practically non existent.  (Should they exist in a declarative language?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log doesn’t have strict type checking, however our compiler did have some loose rules in place.  (May cause headaches for maintenance)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ost and Reliability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ny free compilers availab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o many dialects of Prolog available that code is unlikely to be portable between compiler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Quite a steep learning curve, so may cost in terms of training and maintenanc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Limitation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osed World assump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ack of resolution order contro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Negation problem (instantiation problems when using not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Overall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log seems to be a nice tool for strict logic problems and recursive problem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isual Prolog seems to be trying to push Prolog into mainstream use by adding many OOP features.  We do not suggest it for a general use languag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ts readability and program flow make the language quite difficult for use and maintenan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fficient for areas of AI, but inconceivable for most application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hat’s all.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Prolog Queri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ased on the Rules and Facts, Prolog can answer questions we ask i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s is known as querying the system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 may want to ask, “What does Jim like?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Prolog syntax, we ask: 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</a:rPr>
              <a:t>likes(jim,What).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Note: capital W on wha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Part I - Program Structure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at you’ll need to know about the layout in order to use Prolog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Putting It Together:</a:t>
            </a:r>
            <a:br>
              <a:rPr sz="4200"/>
            </a:br>
            <a:r>
              <a:rPr b="0" i="1" lang="en-US" sz="4200" spc="-1" strike="noStrike">
                <a:solidFill>
                  <a:srgbClr val="cc9900"/>
                </a:solidFill>
                <a:latin typeface="Tahoma"/>
              </a:rPr>
              <a:t>Parts of a Prolog program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ll programs written in Prolog contain at least 4 part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MAI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EDICAT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AUS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What is DOMAIN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section of code where we define the legal values for any type that is not defined as a standard type.  This may include aliasing of types (renaming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main declarations can also be used to define structures that are not defined by the standard domai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19:57:11Z</dcterms:created>
  <dc:creator>slbls</dc:creator>
  <dc:description/>
  <dc:language>en-US</dc:language>
  <cp:lastModifiedBy>AR McIntyre</cp:lastModifiedBy>
  <dcterms:modified xsi:type="dcterms:W3CDTF">1999-12-01T05:05:29Z</dcterms:modified>
  <cp:revision>29</cp:revision>
  <dc:subject/>
  <dc:title>Prolog - PROgramming in LOGic</dc:title>
</cp:coreProperties>
</file>